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0D4-ABCA-4F6A-8655-CE8D0AC1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C07-9B9D-4A2E-857B-ACDD7ACF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60B-39BB-4100-99A5-C1A16B77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B01-084D-4B3E-977E-4BFC09E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C0D-1415-49C0-816B-3DD87977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DAC-3A39-425F-A746-81F9D236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F19-CBCD-4217-8B1A-75E2FBF7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B15-3AB3-47E6-A02F-791152ED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D5E-50C5-4889-A732-959114D3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B30-9F26-44FD-82CE-AFC4AFBB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4CC-B1F8-4810-9FD9-EF82196B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B79-3548-4AF0-BDC2-88CC7DEB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37E7-4A38-47C2-8578-43C05F86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8802-FAB0-4E74-B858-AA4A453D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CC7C-B377-4A20-A46F-EADEA0B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B387-26AF-4325-A6A1-B9281822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5EF7-4F97-4075-A0F0-87DFCC13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4F85-99B0-463D-B7BA-1B27725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D27B-E692-4AE6-A543-FD01F63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621F-5A96-4725-89CF-BE8677FD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806-EE47-46CC-B39A-F3A04AA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ADCB-C23C-4B5A-A33F-E5DF0657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1675-6DBE-440C-AF00-0AE8AEF8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212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49308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24400" y="3964320"/>
            <a:ext cx="260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9D08-44E5-4A4B-BAB1-57DB0B84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743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96432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64320"/>
            <a:ext cx="8076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-2232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tretch/>
        </p:blipFill>
        <p:spPr>
          <a:xfrm>
            <a:off x="0" y="1440"/>
            <a:ext cx="371484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11" descr="标题.JPG"/>
          <p:cNvPicPr/>
          <p:nvPr/>
        </p:nvPicPr>
        <p:blipFill>
          <a:blip r:embed="rId4"/>
          <a:stretch/>
        </p:blipFill>
        <p:spPr>
          <a:xfrm>
            <a:off x="7623000" y="5423040"/>
            <a:ext cx="1521000" cy="14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4580-12DD-4456-AE2F-E314F2B7E1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714240" y="0"/>
            <a:ext cx="9101160" cy="688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-15228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44C3-C2F5-4776-A87A-480234EFFC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0920" y="227664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8.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锐角三角函数（第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课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6021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Arial"/>
              </a:rPr>
              <a:t>人民教育出版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476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Arial"/>
              </a:rPr>
              <a:t>义务教育课程标准实验教科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268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497d"/>
                </a:solidFill>
                <a:latin typeface="Arial"/>
              </a:rPr>
              <a:t>九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55640" y="987480"/>
            <a:ext cx="8497800" cy="280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666000" y="65160"/>
            <a:ext cx="4121640" cy="1130400"/>
            <a:chOff x="666000" y="65160"/>
            <a:chExt cx="4121640" cy="1130400"/>
          </a:xfrm>
        </p:grpSpPr>
        <p:sp>
          <p:nvSpPr>
            <p:cNvPr id="135" name="AutoShape 4"/>
            <p:cNvSpPr/>
            <p:nvPr/>
          </p:nvSpPr>
          <p:spPr>
            <a:xfrm rot="17400000">
              <a:off x="2516040" y="-231840"/>
              <a:ext cx="189000" cy="1173240"/>
            </a:xfrm>
            <a:custGeom>
              <a:avLst/>
              <a:gdLst>
                <a:gd name="textAreaLeft" fmla="*/ 25200 w 189000"/>
                <a:gd name="textAreaRight" fmla="*/ 163800 w 189000"/>
                <a:gd name="textAreaTop" fmla="*/ 205200 h 1173240"/>
                <a:gd name="textAreaBottom" fmla="*/ 850680 h 11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5"/>
            <p:cNvSpPr/>
            <p:nvPr/>
          </p:nvSpPr>
          <p:spPr>
            <a:xfrm rot="16800000">
              <a:off x="1998360" y="-158400"/>
              <a:ext cx="216000" cy="13392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234360 h 1339200"/>
                <a:gd name="textAreaBottom" fmla="*/ 970920 h 133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1020240" y="763560"/>
              <a:ext cx="3767400" cy="43200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 rot="16888200">
              <a:off x="1383120" y="-151200"/>
              <a:ext cx="360360" cy="17582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307440 h 1758240"/>
                <a:gd name="textAreaBottom" fmla="*/ 1274760 h 175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2776680" y="403200"/>
              <a:ext cx="1424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9"/>
          <p:cNvSpPr/>
          <p:nvPr/>
        </p:nvSpPr>
        <p:spPr>
          <a:xfrm>
            <a:off x="1260360" y="1442880"/>
            <a:ext cx="32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当锐角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确定时，∠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对边与斜边的比就随之确定，此时，其他边之间的比是否也确定了呢？为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5148360" y="985680"/>
            <a:ext cx="4392000" cy="2595960"/>
            <a:chOff x="5148360" y="985680"/>
            <a:chExt cx="4392000" cy="2595960"/>
          </a:xfrm>
        </p:grpSpPr>
        <p:sp>
          <p:nvSpPr>
            <p:cNvPr id="142" name="AutoShape 11"/>
            <p:cNvSpPr/>
            <p:nvPr/>
          </p:nvSpPr>
          <p:spPr>
            <a:xfrm flipH="1">
              <a:off x="5434560" y="1382760"/>
              <a:ext cx="2663640" cy="1800000"/>
            </a:xfrm>
            <a:prstGeom prst="rtTriangl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148360" y="30384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7956360" y="9856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7956360" y="3111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6516360" y="318276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邻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8100720" y="21034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对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6229080" y="17780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</a:rPr>
                <a:t>斜边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7884720" y="2967120"/>
              <a:ext cx="215640" cy="215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19"/>
          <p:cNvSpPr/>
          <p:nvPr/>
        </p:nvSpPr>
        <p:spPr>
          <a:xfrm>
            <a:off x="684360" y="3870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当锐角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大小确定时，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邻边与斜边的比、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对边与邻边的比也分别是确定的，我们把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邻边与斜边的比叫做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余弦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sine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，记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，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2916360" y="4516560"/>
                <a:ext cx="28080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邻边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斜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21"/>
          <p:cNvSpPr/>
          <p:nvPr/>
        </p:nvSpPr>
        <p:spPr>
          <a:xfrm>
            <a:off x="684360" y="52722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把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对边与邻边的比叫做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正切（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angent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），记作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an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，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2"/>
              <p:cNvSpPr txBox="1"/>
              <p:nvPr/>
            </p:nvSpPr>
            <p:spPr>
              <a:xfrm>
                <a:off x="2916360" y="5681520"/>
                <a:ext cx="27367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对边</m:t>
                        </m:r>
                      </m:num>
                      <m:den>
                        <m:r>
                          <m:t xml:space="preserve">∠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邻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Text Box 23"/>
          <p:cNvSpPr/>
          <p:nvPr/>
        </p:nvSpPr>
        <p:spPr>
          <a:xfrm>
            <a:off x="971640" y="6461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锐角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正弦、余弦、正切都叫做∠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的锐角三角函数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219640" y="333360"/>
            <a:ext cx="2449440" cy="520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 境 探 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806400" y="681120"/>
            <a:ext cx="792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      ，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7272360" y="504720"/>
                <a:ext cx="23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Text Box 4"/>
          <p:cNvSpPr/>
          <p:nvPr/>
        </p:nvSpPr>
        <p:spPr>
          <a:xfrm>
            <a:off x="590400" y="18334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525680" y="1595520"/>
                <a:ext cx="16556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166760" y="2625840"/>
                <a:ext cx="3168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7"/>
          <p:cNvSpPr/>
          <p:nvPr/>
        </p:nvSpPr>
        <p:spPr>
          <a:xfrm>
            <a:off x="590400" y="38847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1309680" y="3746520"/>
                <a:ext cx="51847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093680" y="4857840"/>
                <a:ext cx="25196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3759120" y="4784760"/>
                <a:ext cx="2521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5" name="Group 11"/>
          <p:cNvGrpSpPr/>
          <p:nvPr/>
        </p:nvGrpSpPr>
        <p:grpSpPr>
          <a:xfrm>
            <a:off x="5867280" y="942840"/>
            <a:ext cx="3225600" cy="2487960"/>
            <a:chOff x="5867280" y="942840"/>
            <a:chExt cx="3225600" cy="2487960"/>
          </a:xfrm>
        </p:grpSpPr>
        <p:sp>
          <p:nvSpPr>
            <p:cNvPr id="166" name="AutoShape 12"/>
            <p:cNvSpPr/>
            <p:nvPr/>
          </p:nvSpPr>
          <p:spPr>
            <a:xfrm flipH="1">
              <a:off x="6226920" y="1303200"/>
              <a:ext cx="2374920" cy="1800360"/>
            </a:xfrm>
            <a:prstGeom prst="rtTriangl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5867280" y="30319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4"/>
            <p:cNvSpPr/>
            <p:nvPr/>
          </p:nvSpPr>
          <p:spPr>
            <a:xfrm>
              <a:off x="8502480" y="94284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5"/>
            <p:cNvSpPr/>
            <p:nvPr/>
          </p:nvSpPr>
          <p:spPr>
            <a:xfrm>
              <a:off x="8516520" y="298908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8602560" y="2023920"/>
              <a:ext cx="43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8459640" y="2959200"/>
              <a:ext cx="142920" cy="14436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18"/>
          <p:cNvSpPr/>
          <p:nvPr/>
        </p:nvSpPr>
        <p:spPr>
          <a:xfrm>
            <a:off x="826920" y="115920"/>
            <a:ext cx="2449800" cy="520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 题 示 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784080" y="836640"/>
            <a:ext cx="82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分别求出下列直角三角形中两个锐角的正弦值、余弦值和正切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84080" y="217440"/>
            <a:ext cx="259092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练     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711360" y="1341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由勾股定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1216080" y="1844640"/>
          <a:ext cx="446400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6080" y="1844640"/>
                    <a:ext cx="4464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8" name="Group 6"/>
          <p:cNvGrpSpPr/>
          <p:nvPr/>
        </p:nvGrpSpPr>
        <p:grpSpPr>
          <a:xfrm>
            <a:off x="5608800" y="1197000"/>
            <a:ext cx="4003560" cy="1954440"/>
            <a:chOff x="5608800" y="1197000"/>
            <a:chExt cx="4003560" cy="1954440"/>
          </a:xfrm>
        </p:grpSpPr>
        <p:sp>
          <p:nvSpPr>
            <p:cNvPr id="179" name="Freeform 7"/>
            <p:cNvSpPr/>
            <p:nvPr/>
          </p:nvSpPr>
          <p:spPr>
            <a:xfrm>
              <a:off x="5940720" y="1528920"/>
              <a:ext cx="3108240" cy="14396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9036360" y="27385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5608800" y="253692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6444000" y="119700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6875640" y="27525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7594920" y="17874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5" name="Object 13"/>
          <p:cNvGraphicFramePr/>
          <p:nvPr/>
        </p:nvGraphicFramePr>
        <p:xfrm>
          <a:off x="1360440" y="2421000"/>
          <a:ext cx="2448000" cy="82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6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60440" y="2421000"/>
                    <a:ext cx="24480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4"/>
          <p:cNvGraphicFramePr/>
          <p:nvPr/>
        </p:nvGraphicFramePr>
        <p:xfrm>
          <a:off x="1430280" y="3284640"/>
          <a:ext cx="2305080" cy="84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30280" y="3284640"/>
                    <a:ext cx="2305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5"/>
          <p:cNvGraphicFramePr/>
          <p:nvPr/>
        </p:nvGraphicFramePr>
        <p:xfrm>
          <a:off x="1353960" y="4365720"/>
          <a:ext cx="2741760" cy="84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0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53960" y="4365720"/>
                    <a:ext cx="27417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6"/>
          <p:cNvGraphicFramePr/>
          <p:nvPr/>
        </p:nvGraphicFramePr>
        <p:xfrm>
          <a:off x="4875120" y="3860640"/>
          <a:ext cx="2475000" cy="825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92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5120" y="3860640"/>
                    <a:ext cx="2475000" cy="8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7"/>
          <p:cNvGraphicFramePr/>
          <p:nvPr/>
        </p:nvGraphicFramePr>
        <p:xfrm>
          <a:off x="5045040" y="4724280"/>
          <a:ext cx="2278080" cy="84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94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45040" y="4724280"/>
                    <a:ext cx="2278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8"/>
          <p:cNvGraphicFramePr/>
          <p:nvPr/>
        </p:nvGraphicFramePr>
        <p:xfrm>
          <a:off x="5103720" y="5661000"/>
          <a:ext cx="2741760" cy="843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6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103720" y="5661000"/>
                    <a:ext cx="274176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55640" y="476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如果各边长都扩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倍，那么锐角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正弦值、余弦值和正切值有什么变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6397560" y="1916280"/>
            <a:ext cx="1390680" cy="1874880"/>
            <a:chOff x="6397560" y="1916280"/>
            <a:chExt cx="1390680" cy="1874880"/>
          </a:xfrm>
        </p:grpSpPr>
        <p:sp>
          <p:nvSpPr>
            <p:cNvPr id="199" name="Text Box 4"/>
            <p:cNvSpPr/>
            <p:nvPr/>
          </p:nvSpPr>
          <p:spPr>
            <a:xfrm>
              <a:off x="7524720" y="335592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5"/>
            <p:cNvSpPr/>
            <p:nvPr/>
          </p:nvSpPr>
          <p:spPr>
            <a:xfrm>
              <a:off x="6540480" y="191628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6"/>
            <p:cNvSpPr/>
            <p:nvPr/>
          </p:nvSpPr>
          <p:spPr>
            <a:xfrm>
              <a:off x="6397560" y="339228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7"/>
            <p:cNvGrpSpPr/>
            <p:nvPr/>
          </p:nvGrpSpPr>
          <p:grpSpPr>
            <a:xfrm>
              <a:off x="6851520" y="2347920"/>
              <a:ext cx="528840" cy="1161720"/>
              <a:chOff x="6851520" y="2347920"/>
              <a:chExt cx="528840" cy="1161720"/>
            </a:xfrm>
          </p:grpSpPr>
          <p:sp>
            <p:nvSpPr>
              <p:cNvPr id="203" name="AutoShape 8"/>
              <p:cNvSpPr/>
              <p:nvPr/>
            </p:nvSpPr>
            <p:spPr>
              <a:xfrm>
                <a:off x="6851520" y="2347920"/>
                <a:ext cx="528840" cy="1161720"/>
              </a:xfrm>
              <a:prstGeom prst="rtTriangle">
                <a:avLst/>
              </a:prstGeom>
              <a:solidFill>
                <a:srgbClr val="fee2f7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6851520" y="3422520"/>
                <a:ext cx="65520" cy="87120"/>
              </a:xfrm>
              <a:prstGeom prst="pie">
                <a:avLst/>
              </a:prstGeom>
              <a:solidFill>
                <a:srgbClr val="fee2f7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 Box 10"/>
          <p:cNvSpPr/>
          <p:nvPr/>
        </p:nvSpPr>
        <p:spPr>
          <a:xfrm>
            <a:off x="973080" y="14112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设各边长分别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三个三角函数分别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11"/>
          <p:cNvGraphicFramePr/>
          <p:nvPr/>
        </p:nvGraphicFramePr>
        <p:xfrm>
          <a:off x="1835280" y="1916280"/>
          <a:ext cx="374472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374472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Text Box 12"/>
          <p:cNvSpPr/>
          <p:nvPr/>
        </p:nvSpPr>
        <p:spPr>
          <a:xfrm>
            <a:off x="1547640" y="2779560"/>
            <a:ext cx="51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则扩大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倍后三边分别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3"/>
          <p:cNvGraphicFramePr/>
          <p:nvPr/>
        </p:nvGraphicFramePr>
        <p:xfrm>
          <a:off x="2106720" y="3211560"/>
          <a:ext cx="2376360" cy="99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6720" y="3211560"/>
                    <a:ext cx="23763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4"/>
          <p:cNvGraphicFramePr/>
          <p:nvPr/>
        </p:nvGraphicFramePr>
        <p:xfrm>
          <a:off x="2163600" y="4435560"/>
          <a:ext cx="2408400" cy="99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3600" y="4435560"/>
                    <a:ext cx="240840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5"/>
          <p:cNvGraphicFramePr/>
          <p:nvPr/>
        </p:nvGraphicFramePr>
        <p:xfrm>
          <a:off x="2106720" y="5516640"/>
          <a:ext cx="2408040" cy="99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6720" y="5516640"/>
                    <a:ext cx="24080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16"/>
          <p:cNvGrpSpPr/>
          <p:nvPr/>
        </p:nvGrpSpPr>
        <p:grpSpPr>
          <a:xfrm>
            <a:off x="6469200" y="4076640"/>
            <a:ext cx="1847880" cy="2451600"/>
            <a:chOff x="6469200" y="4076640"/>
            <a:chExt cx="1847880" cy="2451600"/>
          </a:xfrm>
        </p:grpSpPr>
        <p:grpSp>
          <p:nvGrpSpPr>
            <p:cNvPr id="216" name="Group 17"/>
            <p:cNvGrpSpPr/>
            <p:nvPr/>
          </p:nvGrpSpPr>
          <p:grpSpPr>
            <a:xfrm>
              <a:off x="6877440" y="4508280"/>
              <a:ext cx="1152000" cy="1871640"/>
              <a:chOff x="6877440" y="4508280"/>
              <a:chExt cx="1152000" cy="1871640"/>
            </a:xfrm>
          </p:grpSpPr>
          <p:sp>
            <p:nvSpPr>
              <p:cNvPr id="217" name="AutoShape 18"/>
              <p:cNvSpPr/>
              <p:nvPr/>
            </p:nvSpPr>
            <p:spPr>
              <a:xfrm>
                <a:off x="6877440" y="4508280"/>
                <a:ext cx="1152000" cy="1871640"/>
              </a:xfrm>
              <a:prstGeom prst="rtTriangle">
                <a:avLst/>
              </a:prstGeom>
              <a:solidFill>
                <a:srgbClr val="e3fde8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9"/>
              <p:cNvSpPr/>
              <p:nvPr/>
            </p:nvSpPr>
            <p:spPr>
              <a:xfrm>
                <a:off x="6877440" y="6239520"/>
                <a:ext cx="142920" cy="140400"/>
              </a:xfrm>
              <a:prstGeom prst="pie">
                <a:avLst/>
              </a:prstGeom>
              <a:solidFill>
                <a:srgbClr val="e3fde8"/>
              </a:solidFill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20"/>
            <p:cNvSpPr/>
            <p:nvPr/>
          </p:nvSpPr>
          <p:spPr>
            <a:xfrm>
              <a:off x="8053560" y="612756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6731280" y="407664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469200" y="6129360"/>
              <a:ext cx="26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900000" y="333360"/>
            <a:ext cx="72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图，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t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      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求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7020000" y="0"/>
                <a:ext cx="334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AutoShape 4"/>
          <p:cNvSpPr/>
          <p:nvPr/>
        </p:nvSpPr>
        <p:spPr>
          <a:xfrm>
            <a:off x="6443640" y="1339920"/>
            <a:ext cx="2087640" cy="1187280"/>
          </a:xfrm>
          <a:prstGeom prst="rtTriangl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845964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154560" y="105264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083280" y="2455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>
            <a:off x="6443640" y="2384280"/>
            <a:ext cx="142920" cy="1429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7162920" y="249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260360" y="151920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1"/>
          <p:cNvGraphicFramePr/>
          <p:nvPr/>
        </p:nvGraphicFramePr>
        <p:xfrm>
          <a:off x="2050920" y="1298520"/>
          <a:ext cx="19447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98520"/>
                    <a:ext cx="19447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2"/>
          <p:cNvGraphicFramePr/>
          <p:nvPr/>
        </p:nvGraphicFramePr>
        <p:xfrm>
          <a:off x="2195640" y="2205000"/>
          <a:ext cx="1368360" cy="39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205000"/>
                    <a:ext cx="136836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13"/>
          <p:cNvGraphicFramePr/>
          <p:nvPr/>
        </p:nvGraphicFramePr>
        <p:xfrm>
          <a:off x="1690560" y="2725560"/>
          <a:ext cx="302580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0560" y="2725560"/>
                    <a:ext cx="30258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4"/>
          <p:cNvGraphicFramePr/>
          <p:nvPr/>
        </p:nvGraphicFramePr>
        <p:xfrm>
          <a:off x="1979640" y="4516560"/>
          <a:ext cx="2808360" cy="78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516560"/>
                    <a:ext cx="280836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5"/>
          <p:cNvGraphicFramePr/>
          <p:nvPr/>
        </p:nvGraphicFramePr>
        <p:xfrm>
          <a:off x="1560600" y="3689280"/>
          <a:ext cx="472752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60600" y="3689280"/>
                    <a:ext cx="47275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6"/>
          <p:cNvGraphicFramePr/>
          <p:nvPr/>
        </p:nvGraphicFramePr>
        <p:xfrm>
          <a:off x="2225520" y="5581800"/>
          <a:ext cx="2892600" cy="871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2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25520" y="5581800"/>
                    <a:ext cx="28926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23:46:12Z</dcterms:created>
  <dc:creator/>
  <dc:description/>
  <dc:language>en-US</dc:language>
  <cp:lastModifiedBy>wxsw</cp:lastModifiedBy>
  <dcterms:modified xsi:type="dcterms:W3CDTF">2012-06-29T10:41:38Z</dcterms:modified>
  <cp:revision>3</cp:revision>
  <dc:subject/>
  <dc:title>幻灯片 1</dc:title>
</cp:coreProperties>
</file>